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1.png" ContentType="image/png"/>
  <Override PartName="/ppt/media/image10.jpeg" ContentType="image/jpeg"/>
  <Override PartName="/ppt/media/image5.png" ContentType="image/png"/>
  <Override PartName="/ppt/media/image9.png" ContentType="image/png"/>
  <Override PartName="/ppt/media/image12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13.png" ContentType="image/png"/>
  <Override PartName="/ppt/media/image8.png" ContentType="image/png"/>
  <Override PartName="/ppt/media/image14.jpeg" ContentType="image/jpe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dt" idx="3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96D20B-30C5-4939-AF46-B7C6C29194F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 type="ftr" idx="3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6"/>
          <p:cNvSpPr>
            <a:spLocks noGrp="1"/>
          </p:cNvSpPr>
          <p:nvPr>
            <p:ph type="sldNum" idx="3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BACA09-E2B8-4AEA-B220-2AF1C069F5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udent assessment data includes NeSA-Reading (vocabulary), NRTs (MAP Test for Reading/Vocabulary), local classroom assessment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trict participant surveys follow each set of F2F, PLG, and VC follow-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it interviews of students, teachers, administration at the end of the proje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SU personnel survey will take place at the end of the proje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F31BADB-AACD-4591-AE25-1A7FAB0884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ta collected on one of many questions from the online district participant surve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rvey questions are tied closely to the set of learning opportunities (f2f, PLG, VC) just previous to the laun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E7D496D-05B2-44C3-8877-A9C9399597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752AE7-4AF2-4D58-A3C1-1190BAE10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91AA51-A6A7-4162-B7AE-B4C7C8576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F5FA43-DE59-40C3-9BF7-B4E97FBBB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69E1B5-49F0-4467-8946-4D3C9E8E5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20E5F1-BF4D-49F1-84DA-53CA4CA00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14232F-FA5A-4063-92C1-33EEC484A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72DCB3-9B79-454F-93F2-D6B0829EE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E1B42F-55DB-406E-AD2A-43CB75089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65F034-313A-4262-AD10-65BC000F6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E19808-C830-4CD1-909A-76ABDDDCF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FFDD61-0441-4BB0-9206-E54FF3447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65D23A-EA3A-48EB-AB58-8739F7AA7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B4B2AB-D23E-482D-BBDB-DA062EFB7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A45385-B94C-4371-A056-4A071660F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019E14-A13E-4F15-ABF9-D2E73D07C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52822D-4F9A-42E5-9F7E-BA5A48E66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C72E95-B4B8-40C4-95CD-B7D5F8E9D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B91555-4858-46E0-A81B-67ACB7C0C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DC617C-1AEA-474E-918C-241F83D4A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4A4234-E423-4C39-93A8-3E2745E9A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665C33-A74A-43BF-BA63-940257DCA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692DD3-FE8B-44C6-9D35-F338B504B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4A222E-ED0F-47D8-95D8-C89485BF0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AD0C04-9410-4677-8B48-2E843C888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4E5EE5-7202-4B88-A8FB-76D30B4A0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FC7775-AED0-4041-A79C-A16AADBFF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36BE88-0CAE-4003-92C0-EF93C6C92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3D7AF3-E9AE-4E4C-B1F1-9AA8AE35F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870137-AAF4-4513-9806-A936B4B05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5DF7DF-63A6-4FD0-918E-838151878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72CB2-D4F1-4852-8B64-87F6EDA0E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D2E6F5-7759-4A84-BC69-F9BC600EB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61BE81-1548-4E2D-A1A7-DF2838F35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DEF09C-3097-43A6-827F-A5844A14B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09829B-ABC9-460F-8B4B-BA90BF15A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D33799-E3BC-4E59-BE63-204E4EF98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E5DCE5-0CC7-410E-9287-D889E1012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CFFA0D-554C-457B-A7AA-E417D3B2F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0540BA-38D4-4DEB-8160-841D040F2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AF1F2B-9E20-4AA4-8D41-72F429240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ACE724-78E3-4EA5-B145-4E9843E2F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2D447-1BF0-4796-86B1-8E54281A1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3C40BE-E7E6-47AF-8959-6C4CA03D7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F98571-ED53-463A-ACCA-8D33DA73B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D4BB7E-D3C8-4403-BBA9-15B8E7B81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D71F43-C7B0-4B15-AB64-E34E70A8B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B53448-5125-493E-A012-8CA8A3BA5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0DC7F-753B-48C5-81F2-9AE8C4A59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51983-89ED-440D-999D-573D76D92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2F1B6-4A23-4CE3-848F-8A37239C0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3646B-3EBA-4E39-AA9C-2AF425EAB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9A1BC-F800-46AF-B575-73F434956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97BAF-3416-4C99-A417-03B9D3B2C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CF1C7-75F5-457E-853D-4890CBF91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D7AD8-B4F8-46B0-9DF7-2AAA3027C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42A77-882E-491A-92E1-0A1C02597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B3858-F51B-4923-9216-E0BF301DC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E12D5-D939-4305-8C86-DA86CB2B8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497F2-7F77-4A19-8E7E-47331F49C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C9ED7-9562-466D-BA70-C3560CCC1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65A8B-CE35-48D9-81A7-F5F1A18AE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B18E9-DFCB-41F1-83EB-5A7D5D55E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0C807-3340-443B-9DDF-8BAEFF0C8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F31C1-D414-46D7-A2F2-82FAC9D24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4580F-776A-42C5-8C1A-63A686648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0948D-1060-4273-95DE-8F40813E2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D47BC-7F63-4482-8822-C9429D000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33B8E-C229-4AEA-B601-A403E4BC6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00E88-BB5A-47D2-951F-42907240D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22C1A9-C34D-45E7-92DD-737FEB3BC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BC462B-9E0B-4D6C-A480-306D7D88E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86F08B-B7B7-4712-8C24-24A973D06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796D39-8634-427D-B2AB-CEAC7433B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FDDBE0-84B2-4A90-B5FE-969A72EBA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29BB3E-1293-40EC-90EB-C67CB6CE2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180F8D-C95D-41A1-BF2D-BA522CF0D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EFBE8B-603D-46F5-BADA-521ED6C29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D61FB5-394C-457D-8ECB-509C120C1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5D66BC-A742-4424-97B6-57A023599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B93F4C-7BDE-4CA6-9227-D67ADAA49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1EF706-A5EC-4681-8A3E-ACA0109A3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BCF06E-D1C2-47BA-A5DE-EFC888BC2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58B860-3076-4CF2-BCC9-20384C277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D50D7A-C864-45EC-A6D6-3F7875377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6E3E2D-A80E-4E08-81B0-7155DBA1A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5D5502-0C4A-47BD-AF02-5657410E8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BEE94D-1165-48E2-B942-8320DF282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F3240C-4044-43FF-926B-D2ED72BB0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4FE1B0-CD7C-4310-BB52-AA797FA54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7CCD21-2BCB-44E4-BC3C-61114C4F0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2401BE-DD88-4D8D-A077-75522134F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30B08E-9ADD-4F9E-A517-E2469777E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D8047E-515E-46F9-BCD3-79431882F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725C2B-6C5D-4E41-8655-A47A995C6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210826-28F8-424A-99DD-FAD553B09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B6C171-E213-4384-8F91-688133FA8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502F0E-5AD1-4B8E-BE44-4027D3420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7DECAB-6412-426C-A315-2ED82CE16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05A375-1B9B-43EC-8AE1-8A79ECB46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503506-8786-484C-B7C6-ABDADBA04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08EC5B-D32F-4D87-A3A0-35835BF33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05AE94-67C8-40BE-91C5-4A6B45B77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7B4DEB-894A-49F0-B20D-053D41A6F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0D50A9-CEB5-43D3-A250-B1A3B60C8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5B9AB1-DF98-4A8F-ABCD-AE1B7279B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980C6E-9F90-4C75-A698-596EB2843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76C87B-9B9E-4AC2-B050-8402E09E8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E285E0-8BE5-4FC1-A90A-DD67C7337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321C4B-1EBD-4C67-804B-2DCF45DCF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398572-05A5-4EEA-8ECC-A85C64046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595BF0-E987-4D24-A69E-74E04F1DF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45437B-BF7E-47B7-868F-76128FCBC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902111-71DA-4507-9463-21A5E5A20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085866-C4C1-4616-A514-049F0FE13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2681E7-34DA-4AC5-9567-48078D670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06F048-0638-466C-BD2D-447E8CBB4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ECA72A-7C16-4C2C-9BB3-530A11176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00A261-2779-4B06-B6C5-4F4211108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012215-C1D9-4812-A633-87C36883B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35EBBC-44AF-4CCC-8BDA-4DF04ED62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319708-D567-4DF6-8ED8-FC4C1270B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7CFD6E-E0BC-4639-9B1A-F25098D73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F26D11-28BC-4EB7-8ABB-FBE019D08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DBAAB7-C358-472B-A4A5-8CA0E7F3E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AF558D-97E2-473B-8C6F-0621A015D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2AE00A-2BDB-4DA7-8F77-40D6153CC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EFD4A2-CC85-4D66-A7A1-9A8A750C9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5E201C-C3C8-43D9-9631-32BA6A9AF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60A5A6-1476-4F2A-AAD6-DE13E5EA6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BEEDA3-A0E5-4D10-993E-5146FAF84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AAC316-4B6C-4E02-9F73-12FC54702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02445A-71C5-43F2-AB20-C368FE021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c09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c09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EF0985-0199-4BBA-AA80-B49AB867EB32}" type="datetime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9F81F4-C0F7-4153-BB5A-40E5F8772CDD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c09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FDAE53-7A5A-436C-A7EA-DFCBAAD4AA37}" type="datetime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A34B0B4-6FD3-4EA4-B62D-62614CC172EF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c09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CB0FBC-51C9-4AA1-B2DF-6B32C2C2E72E}" type="datetime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F2F114-8CD2-4313-9235-CEF5D681C449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c09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1BF6626-6495-4F53-918C-152F9B41B483}" type="datetime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EB04A25-21A4-44A9-A5DB-DF65D093BCCB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c09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2BFAA5-ADE0-412A-ABD9-71F52808AAD8}" type="datetime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17FA3D2-2D91-4D13-9BB0-C73B20057521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c09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E1D2B33-00D8-4CEA-9C0C-9281C5B5791F}" type="datetime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64A247E-D906-44DC-856C-BE8618D80529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c09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678D87-C306-4168-A231-00EB9521B27D}" type="datetime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DFE852F-C2B8-42D3-96F3-3119BE47015D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c09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8BA44B-5433-4C5D-B8F6-F73215D7A94E}" type="datetime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163E6A1-CFAA-4A35-9AE5-027D68573A7F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c09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4F0B2A2-D2B7-4805-B5C1-5707F5730AA9}" type="datetime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EE1D95-3E42-4697-A2C0-8D3344BFA71A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c09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1EF913-1006-4CAE-91DF-97523ED25C82}" type="datetime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4E03CC8-1776-4CCC-8B5C-86580FDEC66B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c09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0D5FA0E-0F74-47A4-8383-B0E60F5EDCB2}" type="datetime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16BCFA9-D424-449B-86A4-2D2A2ECCA9F3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hyperlink" Target="http://esu3vocab.wikispaces.com/" TargetMode="External"/><Relationship Id="rId3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c09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4" name="Picture 3" descr="Orange_and_Black_Desktop_Them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5" name="TextBox 2"/>
          <p:cNvSpPr/>
          <p:nvPr/>
        </p:nvSpPr>
        <p:spPr>
          <a:xfrm>
            <a:off x="2324160" y="252360"/>
            <a:ext cx="7340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doni SvtyTwo ITC TT-Book"/>
                <a:ea typeface="Bodoni SvtyTwo ITC TT-Book"/>
              </a:rPr>
              <a:t>Professional Learning Projec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doni SvtyTwo ITC TT-Book"/>
                <a:ea typeface="Bodoni SvtyTwo ITC TT-Book"/>
              </a:rPr>
              <a:t>                 </a:t>
            </a:r>
            <a:r>
              <a:rPr b="0" lang="en-US" sz="4000" spc="-1" strike="noStrike">
                <a:solidFill>
                  <a:srgbClr val="ffffff"/>
                </a:solidFill>
                <a:latin typeface="Bodoni SvtyTwo ITC TT-Book"/>
                <a:ea typeface="Bodoni SvtyTwo ITC TT-Book"/>
              </a:rPr>
              <a:t>Update: Winter 201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ac09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0" name="Picture 8" descr="Handlightorange.png"/>
          <p:cNvPicPr/>
          <p:nvPr/>
        </p:nvPicPr>
        <p:blipFill>
          <a:blip r:embed="rId1"/>
          <a:stretch/>
        </p:blipFill>
        <p:spPr>
          <a:xfrm>
            <a:off x="0" y="2886120"/>
            <a:ext cx="9144000" cy="4029120"/>
          </a:xfrm>
          <a:prstGeom prst="rect">
            <a:avLst/>
          </a:prstGeom>
          <a:ln w="0">
            <a:noFill/>
          </a:ln>
        </p:spPr>
      </p:pic>
      <p:sp>
        <p:nvSpPr>
          <p:cNvPr id="501" name="TextBox 8"/>
          <p:cNvSpPr/>
          <p:nvPr/>
        </p:nvSpPr>
        <p:spPr>
          <a:xfrm>
            <a:off x="2362320" y="3240000"/>
            <a:ext cx="665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Bodoni SvtyTwo ITC TT-Book"/>
              </a:rPr>
              <a:t>Collaboration with others to clearly communicate understand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Bodoni SvtyTwo ITC TT-Book"/>
              </a:rPr>
              <a:t>by effectively using content specific ter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Box 9"/>
          <p:cNvSpPr/>
          <p:nvPr/>
        </p:nvSpPr>
        <p:spPr>
          <a:xfrm>
            <a:off x="2355120" y="4349880"/>
            <a:ext cx="58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Bodoni SvtyTwo ITC TT-Book"/>
              </a:rPr>
              <a:t>Implementation of problem solving strategies to discer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Bodoni SvtyTwo ITC TT-Book"/>
              </a:rPr>
              <a:t>unfamiliar wor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Box 10"/>
          <p:cNvSpPr/>
          <p:nvPr/>
        </p:nvSpPr>
        <p:spPr>
          <a:xfrm>
            <a:off x="2338560" y="5351400"/>
            <a:ext cx="680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Bodoni SvtyTwo ITC TT-Book"/>
              </a:rPr>
              <a:t>Application of critical thinking skills such as comparison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Bodoni SvtyTwo ITC TT-Book"/>
              </a:rPr>
              <a:t>classification, webbing, analogies, deductive/inductive reasoning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Bodoni SvtyTwo ITC TT-Book"/>
              </a:rPr>
              <a:t>hypothesizing, and critiquing to demonstrate knowledge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Bodoni SvtyTwo ITC TT-Book"/>
              </a:rPr>
              <a:t>vocabulary wor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4" name="Picture 7" descr="GOALSlightorang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1390680"/>
          </a:xfrm>
          <a:prstGeom prst="rect">
            <a:avLst/>
          </a:prstGeom>
          <a:ln w="0">
            <a:noFill/>
          </a:ln>
        </p:spPr>
      </p:pic>
      <p:sp>
        <p:nvSpPr>
          <p:cNvPr id="505" name="TextBox 7"/>
          <p:cNvSpPr/>
          <p:nvPr/>
        </p:nvSpPr>
        <p:spPr>
          <a:xfrm>
            <a:off x="419040" y="2211480"/>
            <a:ext cx="8610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Bodoni SvtyTwo ITC TT-Book"/>
              </a:rPr>
              <a:t>For Students: To develop, apply, and demonstrate growth of vocabulary knowledg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Bodoni SvtyTwo ITC TT-Book"/>
              </a:rPr>
              <a:t>to improve comprehension and communication by effectively using strategies tha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Bodoni SvtyTwo ITC TT-Book"/>
              </a:rPr>
              <a:t>include but not limited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Box 6"/>
          <p:cNvSpPr/>
          <p:nvPr/>
        </p:nvSpPr>
        <p:spPr>
          <a:xfrm>
            <a:off x="400680" y="1460520"/>
            <a:ext cx="869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or Teachers: To identify, develop, and implement learning targets and instructi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rategies that include but not limited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Box 6"/>
          <p:cNvSpPr/>
          <p:nvPr/>
        </p:nvSpPr>
        <p:spPr>
          <a:xfrm>
            <a:off x="402120" y="1461960"/>
            <a:ext cx="869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a6a6a6"/>
                </a:solidFill>
                <a:latin typeface="Arial"/>
                <a:ea typeface="Arial"/>
              </a:rPr>
              <a:t>For Teachers: To identify, develop, and implement learning targets and instructi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a6a6a6"/>
                </a:solidFill>
                <a:latin typeface="Arial"/>
                <a:ea typeface="Arial"/>
              </a:rPr>
              <a:t>strategies that include but not limited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c09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Professional Learning Program Overview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9" name="Picture 3" descr="CyclelightorangeCopy.png"/>
          <p:cNvPicPr/>
          <p:nvPr/>
        </p:nvPicPr>
        <p:blipFill>
          <a:blip r:embed="rId1"/>
          <a:stretch/>
        </p:blipFill>
        <p:spPr>
          <a:xfrm>
            <a:off x="658800" y="2462040"/>
            <a:ext cx="7826400" cy="32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c09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TextBox 3"/>
          <p:cNvSpPr/>
          <p:nvPr/>
        </p:nvSpPr>
        <p:spPr>
          <a:xfrm>
            <a:off x="259200" y="49320"/>
            <a:ext cx="8773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Bodoni SvtyTwo ITC TT-Book"/>
              </a:rPr>
              <a:t>The 3 Pillars of the Face-2-Face Learning Progra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1" name="Picture 5" descr="3-pillars2.jpg"/>
          <p:cNvPicPr/>
          <p:nvPr/>
        </p:nvPicPr>
        <p:blipFill>
          <a:blip r:embed="rId1"/>
          <a:stretch/>
        </p:blipFill>
        <p:spPr>
          <a:xfrm>
            <a:off x="762120" y="757080"/>
            <a:ext cx="7181640" cy="4751640"/>
          </a:xfrm>
          <a:prstGeom prst="rect">
            <a:avLst/>
          </a:prstGeom>
          <a:ln w="0">
            <a:noFill/>
          </a:ln>
        </p:spPr>
      </p:pic>
      <p:grpSp>
        <p:nvGrpSpPr>
          <p:cNvPr id="512" name="Group 13"/>
          <p:cNvGrpSpPr/>
          <p:nvPr/>
        </p:nvGrpSpPr>
        <p:grpSpPr>
          <a:xfrm>
            <a:off x="324720" y="1352520"/>
            <a:ext cx="2462760" cy="4982040"/>
            <a:chOff x="324720" y="1352520"/>
            <a:chExt cx="2462760" cy="4982040"/>
          </a:xfrm>
        </p:grpSpPr>
        <p:sp>
          <p:nvSpPr>
            <p:cNvPr id="513" name="TextBox 9"/>
            <p:cNvSpPr/>
            <p:nvPr/>
          </p:nvSpPr>
          <p:spPr>
            <a:xfrm>
              <a:off x="324720" y="5601240"/>
              <a:ext cx="24256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Bodoni SvtyTwo ITC TT-Book"/>
                </a:rPr>
                <a:t>1. The content will referen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Bodoni SvtyTwo ITC TT-Book"/>
                </a:rPr>
                <a:t>and be clearly focused 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Bodoni SvtyTwo ITC TT-Book"/>
                </a:rPr>
                <a:t>the goal of the project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14" name="TextBox 12" descr=""/>
            <p:cNvPicPr/>
            <p:nvPr/>
          </p:nvPicPr>
          <p:blipFill>
            <a:blip r:embed="rId2"/>
            <a:stretch/>
          </p:blipFill>
          <p:spPr>
            <a:xfrm>
              <a:off x="763200" y="1352520"/>
              <a:ext cx="2024280" cy="3082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5" name="Group 17"/>
          <p:cNvGrpSpPr/>
          <p:nvPr/>
        </p:nvGrpSpPr>
        <p:grpSpPr>
          <a:xfrm>
            <a:off x="2814480" y="1628640"/>
            <a:ext cx="3114720" cy="4706280"/>
            <a:chOff x="2814480" y="1628640"/>
            <a:chExt cx="3114720" cy="4706280"/>
          </a:xfrm>
        </p:grpSpPr>
        <p:sp>
          <p:nvSpPr>
            <p:cNvPr id="516" name="TextBox 10"/>
            <p:cNvSpPr/>
            <p:nvPr/>
          </p:nvSpPr>
          <p:spPr>
            <a:xfrm>
              <a:off x="2814480" y="5601600"/>
              <a:ext cx="31147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Bodoni SvtyTwo ITC TT-Book"/>
                </a:rPr>
                <a:t>2. The pedagogy will always include the identification and implementation of 21</a:t>
              </a:r>
              <a:r>
                <a:rPr b="0" lang="en-US" sz="1400" spc="-1" strike="noStrike" baseline="30000">
                  <a:solidFill>
                    <a:srgbClr val="000000"/>
                  </a:solidFill>
                  <a:latin typeface="Arial"/>
                  <a:ea typeface="Bodoni SvtyTwo ITC TT-Book"/>
                </a:rPr>
                <a:t>st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Bodoni SvtyTwo ITC TT-Book"/>
                </a:rPr>
                <a:t> century skill(s) in teaching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17" name="TextBox 14" descr=""/>
            <p:cNvPicPr/>
            <p:nvPr/>
          </p:nvPicPr>
          <p:blipFill>
            <a:blip r:embed="rId3"/>
            <a:stretch/>
          </p:blipFill>
          <p:spPr>
            <a:xfrm>
              <a:off x="3956040" y="1628640"/>
              <a:ext cx="871560" cy="3822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8" name="Group 18"/>
          <p:cNvGrpSpPr/>
          <p:nvPr/>
        </p:nvGrpSpPr>
        <p:grpSpPr>
          <a:xfrm>
            <a:off x="6296040" y="730080"/>
            <a:ext cx="3079800" cy="5590080"/>
            <a:chOff x="6296040" y="730080"/>
            <a:chExt cx="3079800" cy="5590080"/>
          </a:xfrm>
        </p:grpSpPr>
        <p:sp>
          <p:nvSpPr>
            <p:cNvPr id="519" name="TextBox 11"/>
            <p:cNvSpPr/>
            <p:nvPr/>
          </p:nvSpPr>
          <p:spPr>
            <a:xfrm>
              <a:off x="6602760" y="5586840"/>
              <a:ext cx="27730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Bodoni SvtyTwo ITC TT-Book"/>
                </a:rPr>
                <a:t>3. The inclusion of technolog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Bodoni SvtyTwo ITC TT-Book"/>
                </a:rPr>
                <a:t>will be appropriate to support #1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Bodoni SvtyTwo ITC TT-Book"/>
                </a:rPr>
                <a:t>&amp; #2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20" name="TextBox 16" descr=""/>
            <p:cNvPicPr/>
            <p:nvPr/>
          </p:nvPicPr>
          <p:blipFill>
            <a:blip r:embed="rId4"/>
            <a:stretch/>
          </p:blipFill>
          <p:spPr>
            <a:xfrm>
              <a:off x="6296040" y="730080"/>
              <a:ext cx="2081880" cy="42552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c09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1" name="Picture 5" descr="framework1.jpg"/>
          <p:cNvPicPr/>
          <p:nvPr/>
        </p:nvPicPr>
        <p:blipFill>
          <a:blip r:embed="rId1"/>
          <a:stretch/>
        </p:blipFill>
        <p:spPr>
          <a:xfrm>
            <a:off x="-179280" y="0"/>
            <a:ext cx="10294920" cy="6858000"/>
          </a:xfrm>
          <a:prstGeom prst="rect">
            <a:avLst/>
          </a:prstGeom>
          <a:ln w="0">
            <a:noFill/>
          </a:ln>
        </p:spPr>
      </p:pic>
      <p:sp>
        <p:nvSpPr>
          <p:cNvPr id="522" name="TextBox 3"/>
          <p:cNvSpPr/>
          <p:nvPr/>
        </p:nvSpPr>
        <p:spPr>
          <a:xfrm>
            <a:off x="2170800" y="49320"/>
            <a:ext cx="5734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Bodoni SvtyTwo ITC TT-Book"/>
              </a:rPr>
              <a:t>Face-2-Face Framewor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Box 6"/>
          <p:cNvSpPr/>
          <p:nvPr/>
        </p:nvSpPr>
        <p:spPr>
          <a:xfrm>
            <a:off x="491760" y="1560600"/>
            <a:ext cx="516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Bodoni SvtyTwo ITC TT-Book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Bodoni SvtyTwo ITC TT-Book"/>
              </a:rPr>
              <a:t>The goal of the project is reitera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TextBox 7"/>
          <p:cNvSpPr/>
          <p:nvPr/>
        </p:nvSpPr>
        <p:spPr>
          <a:xfrm>
            <a:off x="512640" y="2455920"/>
            <a:ext cx="7588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Bodoni SvtyTwo ITC TT-Book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Bodoni SvtyTwo ITC TT-Book"/>
              </a:rPr>
              <a:t>The content is delivered and a video of the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Bodoni SvtyTwo ITC TT-Book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Bodoni SvtyTwo ITC TT-Book"/>
              </a:rPr>
              <a:t>is made available on the Fort Calhoun web si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TextBox 8"/>
          <p:cNvSpPr/>
          <p:nvPr/>
        </p:nvSpPr>
        <p:spPr>
          <a:xfrm>
            <a:off x="500040" y="4618080"/>
            <a:ext cx="67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Bodoni SvtyTwo ITC TT-Book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Bodoni SvtyTwo ITC TT-Book"/>
              </a:rPr>
              <a:t>Input for videoconference follow-up is gathe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TextBox 9"/>
          <p:cNvSpPr/>
          <p:nvPr/>
        </p:nvSpPr>
        <p:spPr>
          <a:xfrm>
            <a:off x="509040" y="3720960"/>
            <a:ext cx="867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Bodoni SvtyTwo ITC TT-Book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Bodoni SvtyTwo ITC TT-Book"/>
              </a:rPr>
              <a:t>Support documentation for PLGs is distributed and explain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Box 10"/>
          <p:cNvSpPr/>
          <p:nvPr/>
        </p:nvSpPr>
        <p:spPr>
          <a:xfrm>
            <a:off x="488520" y="5513400"/>
            <a:ext cx="772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Bodoni SvtyTwo ITC TT-Book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Bodoni SvtyTwo ITC TT-Book"/>
              </a:rPr>
              <a:t>A brief preview of the next F-2-F learning is presen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c09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8" name="Picture 4" descr="wideDisplayLightOrange.png"/>
          <p:cNvPicPr/>
          <p:nvPr/>
        </p:nvPicPr>
        <p:blipFill>
          <a:blip r:embed="rId1"/>
          <a:stretch/>
        </p:blipFill>
        <p:spPr>
          <a:xfrm>
            <a:off x="641520" y="1047600"/>
            <a:ext cx="7860960" cy="5410440"/>
          </a:xfrm>
          <a:prstGeom prst="rect">
            <a:avLst/>
          </a:prstGeom>
          <a:ln w="0">
            <a:noFill/>
          </a:ln>
        </p:spPr>
      </p:pic>
      <p:sp>
        <p:nvSpPr>
          <p:cNvPr id="529" name="TextBox 3"/>
          <p:cNvSpPr/>
          <p:nvPr/>
        </p:nvSpPr>
        <p:spPr>
          <a:xfrm>
            <a:off x="2062080" y="227160"/>
            <a:ext cx="52113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Bodoni SvtyTwo ITC TT-Book"/>
              </a:rPr>
              <a:t>Face-2-Face Online Video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0" name="Macintosh HD:Users:billmenousek:Desktop:Fort Calhoun Presentation:FortCalhounF2F2Janet.mov" descr="/Users/billmenousek/Desktop/FortCalhounF2F2Janet.mov"/>
          <p:cNvPicPr/>
          <p:nvPr/>
        </p:nvPicPr>
        <p:blipFill>
          <a:blip r:embed="rId2"/>
          <a:stretch/>
        </p:blipFill>
        <p:spPr>
          <a:xfrm>
            <a:off x="2054160" y="1447920"/>
            <a:ext cx="506736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restart="whenNotActive" nodeType="interactiveSeq" fill="hold">
                <p:stCondLst>
                  <p:cond evt="onClick">
                    <p:tgtEl>
                      <p:spTgt spid="530"/>
                    </p:tgtEl>
                  </p:cond>
                </p:stCondLst>
                <p:childTnLst>
                  <p:par>
                    <p:cTn id="86" fill="hold">
                      <p:stCondLst>
                        <p:cond evt="onClick">
                          <p:tgtEl>
                            <p:spTgt spid="530"/>
                          </p:tgtEl>
                        </p:cond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89" dur="1" fill="hold"/>
                                        <p:tgtEl>
                                          <p:spTgt spid="5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c09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1" name="Picture 3" descr="wideDisplayLightOrange.png"/>
          <p:cNvPicPr/>
          <p:nvPr/>
        </p:nvPicPr>
        <p:blipFill>
          <a:blip r:embed="rId1"/>
          <a:stretch/>
        </p:blipFill>
        <p:spPr>
          <a:xfrm>
            <a:off x="641520" y="723960"/>
            <a:ext cx="7860960" cy="5410080"/>
          </a:xfrm>
          <a:prstGeom prst="rect">
            <a:avLst/>
          </a:prstGeom>
          <a:ln w="0">
            <a:noFill/>
          </a:ln>
        </p:spPr>
      </p:pic>
      <p:pic>
        <p:nvPicPr>
          <p:cNvPr id="532" name="Macintosh HD:Users:billmenousek:Desktop:Fort Calhoun Presentation:FortCalhounF2F2Pam.mov" descr="/Users/billmenousek/Desktop/FortCalhounF2F2Pam.mov"/>
          <p:cNvPicPr/>
          <p:nvPr/>
        </p:nvPicPr>
        <p:blipFill>
          <a:blip r:embed="rId2"/>
          <a:stretch/>
        </p:blipFill>
        <p:spPr>
          <a:xfrm>
            <a:off x="2106720" y="1206360"/>
            <a:ext cx="4979880" cy="37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restart="whenNotActive" nodeType="interactiveSeq" fill="hold">
                <p:stCondLst>
                  <p:cond evt="onClick">
                    <p:tgtEl>
                      <p:spTgt spid="532"/>
                    </p:tgtEl>
                  </p:cond>
                </p:stCondLst>
                <p:childTnLst>
                  <p:par>
                    <p:cTn id="92" fill="hold">
                      <p:stCondLst>
                        <p:cond evt="onClick">
                          <p:tgtEl>
                            <p:spTgt spid="532"/>
                          </p:tgtEl>
                        </p:cond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95" dur="1" fill="hold"/>
                                        <p:tgtEl>
                                          <p:spTgt spid="5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c09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Picture 4" descr="PLG2.jpg"/>
          <p:cNvPicPr/>
          <p:nvPr/>
        </p:nvPicPr>
        <p:blipFill>
          <a:blip r:embed="rId1"/>
          <a:stretch/>
        </p:blipFill>
        <p:spPr>
          <a:xfrm>
            <a:off x="0" y="0"/>
            <a:ext cx="10296360" cy="6858000"/>
          </a:xfrm>
          <a:prstGeom prst="rect">
            <a:avLst/>
          </a:prstGeom>
          <a:ln w="0">
            <a:noFill/>
          </a:ln>
        </p:spPr>
      </p:pic>
      <p:sp>
        <p:nvSpPr>
          <p:cNvPr id="534" name="TextBox 5"/>
          <p:cNvSpPr/>
          <p:nvPr/>
        </p:nvSpPr>
        <p:spPr>
          <a:xfrm>
            <a:off x="889920" y="420840"/>
            <a:ext cx="689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Bodoni SvtyTwo ITC TT-Book"/>
              </a:rPr>
              <a:t>Professional Learning Grou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Box 6"/>
          <p:cNvSpPr/>
          <p:nvPr/>
        </p:nvSpPr>
        <p:spPr>
          <a:xfrm>
            <a:off x="869040" y="1914480"/>
            <a:ext cx="630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Bodoni SvtyTwo ITC TT-Book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Bodoni SvtyTwo ITC TT-Book"/>
              </a:rPr>
              <a:t>Enhances professional conver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TextBox 7"/>
          <p:cNvSpPr/>
          <p:nvPr/>
        </p:nvSpPr>
        <p:spPr>
          <a:xfrm>
            <a:off x="867600" y="3032280"/>
            <a:ext cx="577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Bodoni SvtyTwo ITC TT-Book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Bodoni SvtyTwo ITC TT-Book"/>
              </a:rPr>
              <a:t>Focuses on instructional pract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TextBox 8"/>
          <p:cNvSpPr/>
          <p:nvPr/>
        </p:nvSpPr>
        <p:spPr>
          <a:xfrm>
            <a:off x="936720" y="4149720"/>
            <a:ext cx="709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Bodoni SvtyTwo ITC TT-Book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Bodoni SvtyTwo ITC TT-Book"/>
              </a:rPr>
              <a:t>Provides follow-up to Face-2-Face cont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Box 9"/>
          <p:cNvSpPr/>
          <p:nvPr/>
        </p:nvSpPr>
        <p:spPr>
          <a:xfrm>
            <a:off x="810000" y="5267160"/>
            <a:ext cx="6501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Bodoni SvtyTwo ITC TT-Book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Bodoni SvtyTwo ITC TT-Book"/>
              </a:rPr>
              <a:t>Allows discussion of student growth 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Bodoni SvtyTwo ITC TT-Book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Bodoni SvtyTwo ITC TT-Book"/>
              </a:rPr>
              <a:t>targeted ski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c09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TextBox 3"/>
          <p:cNvSpPr/>
          <p:nvPr/>
        </p:nvSpPr>
        <p:spPr>
          <a:xfrm>
            <a:off x="1866960" y="312840"/>
            <a:ext cx="551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Bodoni SvtyTwo ITC TT-Book"/>
              </a:rPr>
              <a:t>Sample PLG Docu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0" name="Picture 2" descr="PLGDocument003.jpg"/>
          <p:cNvPicPr/>
          <p:nvPr/>
        </p:nvPicPr>
        <p:blipFill>
          <a:blip r:embed="rId1"/>
          <a:stretch/>
        </p:blipFill>
        <p:spPr>
          <a:xfrm>
            <a:off x="2208240" y="1243080"/>
            <a:ext cx="4825800" cy="521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c09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TextBox 3"/>
          <p:cNvSpPr/>
          <p:nvPr/>
        </p:nvSpPr>
        <p:spPr>
          <a:xfrm>
            <a:off x="2512080" y="730080"/>
            <a:ext cx="3989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Bodoni SvtyTwo ITC TT-Book"/>
              </a:rPr>
              <a:t>Videoconfere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Box 5"/>
          <p:cNvSpPr/>
          <p:nvPr/>
        </p:nvSpPr>
        <p:spPr>
          <a:xfrm>
            <a:off x="291960" y="2075040"/>
            <a:ext cx="843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Bodoni SvtyTwo ITC TT-Book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Bodoni SvtyTwo ITC TT-Book"/>
              </a:rPr>
              <a:t>Enhances professional convers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Box 6"/>
          <p:cNvSpPr/>
          <p:nvPr/>
        </p:nvSpPr>
        <p:spPr>
          <a:xfrm>
            <a:off x="317880" y="3097080"/>
            <a:ext cx="655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Bodoni SvtyTwo ITC TT-Book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Bodoni SvtyTwo ITC TT-Book"/>
              </a:rPr>
              <a:t>Focuses on instructional pract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Box 7"/>
          <p:cNvSpPr/>
          <p:nvPr/>
        </p:nvSpPr>
        <p:spPr>
          <a:xfrm>
            <a:off x="397080" y="4119480"/>
            <a:ext cx="806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Bodoni SvtyTwo ITC TT-Book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Bodoni SvtyTwo ITC TT-Book"/>
              </a:rPr>
              <a:t>Provides follow-up to Face-2-Face cont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c09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5" name="Picture 3" descr="wideDisplayLightOrange.png"/>
          <p:cNvPicPr/>
          <p:nvPr/>
        </p:nvPicPr>
        <p:blipFill>
          <a:blip r:embed="rId1"/>
          <a:stretch/>
        </p:blipFill>
        <p:spPr>
          <a:xfrm>
            <a:off x="641520" y="723960"/>
            <a:ext cx="7860960" cy="5410080"/>
          </a:xfrm>
          <a:prstGeom prst="rect">
            <a:avLst/>
          </a:prstGeom>
          <a:ln w="0">
            <a:noFill/>
          </a:ln>
        </p:spPr>
      </p:pic>
      <p:pic>
        <p:nvPicPr>
          <p:cNvPr id="546" name="Macintosh HD:Users:billmenousek:Desktop:Fort Calhoun Presentation:FtCalhounVideoConf12-10-10.mov" descr="/Users/billmenousek/Desktop/Fort Calhoun Presentation/FtCalhounVideoConf12-10-10.mov"/>
          <p:cNvPicPr/>
          <p:nvPr/>
        </p:nvPicPr>
        <p:blipFill>
          <a:blip r:embed="rId2"/>
          <a:stretch/>
        </p:blipFill>
        <p:spPr>
          <a:xfrm>
            <a:off x="1200240" y="1174680"/>
            <a:ext cx="6740280" cy="37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restart="whenNotActive" nodeType="interactiveSeq" fill="hold">
                <p:stCondLst>
                  <p:cond evt="onClick">
                    <p:tgtEl>
                      <p:spTgt spid="546"/>
                    </p:tgtEl>
                  </p:cond>
                </p:stCondLst>
                <p:childTnLst>
                  <p:par>
                    <p:cTn id="98" fill="hold">
                      <p:stCondLst>
                        <p:cond evt="onClick">
                          <p:tgtEl>
                            <p:spTgt spid="546"/>
                          </p:tgtEl>
                        </p:cond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01" dur="1" fill="hold"/>
                                        <p:tgtEl>
                                          <p:spTgt spid="5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c09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TextBox 3"/>
          <p:cNvSpPr/>
          <p:nvPr/>
        </p:nvSpPr>
        <p:spPr>
          <a:xfrm>
            <a:off x="577800" y="182520"/>
            <a:ext cx="8215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order to reflect the current research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change teaching practice, and 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e student achievement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essional development must be ongoing, job-embedded, relevant to the teacher’s instructional needs, and collaborative in natu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ellen Kill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c09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TextBox 3"/>
          <p:cNvSpPr/>
          <p:nvPr/>
        </p:nvSpPr>
        <p:spPr>
          <a:xfrm>
            <a:off x="987120" y="263520"/>
            <a:ext cx="7064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Bodoni SvtyTwo ITC TT-Book"/>
              </a:rPr>
              <a:t>ESU #3 Vocabulary Wikispa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Box 5"/>
          <p:cNvSpPr/>
          <p:nvPr/>
        </p:nvSpPr>
        <p:spPr>
          <a:xfrm>
            <a:off x="223560" y="2052720"/>
            <a:ext cx="3670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doni SvtyTwo ITC TT-Book"/>
                <a:ea typeface="Bodoni SvtyTwo ITC TT-Book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Bodoni SvtyTwo ITC TT-Book"/>
              </a:rPr>
              <a:t>Include links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Bodoni SvtyTwo ITC TT-Book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Bodoni SvtyTwo ITC TT-Book"/>
              </a:rPr>
              <a:t>resources on vocabul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Box 6"/>
          <p:cNvSpPr/>
          <p:nvPr/>
        </p:nvSpPr>
        <p:spPr>
          <a:xfrm>
            <a:off x="186840" y="3044880"/>
            <a:ext cx="284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Bodoni SvtyTwo ITC TT-Book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Bodoni SvtyTwo ITC TT-Book"/>
              </a:rPr>
              <a:t>Include links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Bodoni SvtyTwo ITC TT-Book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Bodoni SvtyTwo ITC TT-Book"/>
              </a:rPr>
              <a:t>resources on  2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Bodoni SvtyTwo ITC TT-Book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Bodoni SvtyTwo ITC TT-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Bodoni SvtyTwo ITC TT-Book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Bodoni SvtyTwo ITC TT-Book"/>
              </a:rPr>
              <a:t>Century Ski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Box 7"/>
          <p:cNvSpPr/>
          <p:nvPr/>
        </p:nvSpPr>
        <p:spPr>
          <a:xfrm>
            <a:off x="230400" y="4405320"/>
            <a:ext cx="61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Bodoni SvtyTwo ITC TT-Book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Bodoni SvtyTwo ITC TT-Book"/>
              </a:rPr>
              <a:t>Provide access to Fort Calhoun doc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Box 9"/>
          <p:cNvSpPr/>
          <p:nvPr/>
        </p:nvSpPr>
        <p:spPr>
          <a:xfrm>
            <a:off x="236520" y="5025960"/>
            <a:ext cx="767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Bodoni SvtyTwo ITC TT-Book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Bodoni SvtyTwo ITC TT-Book"/>
              </a:rPr>
              <a:t>Provide on-going pre-screened resources for teac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Box 10"/>
          <p:cNvSpPr/>
          <p:nvPr/>
        </p:nvSpPr>
        <p:spPr>
          <a:xfrm>
            <a:off x="178920" y="1062000"/>
            <a:ext cx="318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Bodoni SvtyTwo ITC TT-Book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Bodoni SvtyTwo ITC TT-Book"/>
              </a:rPr>
              <a:t>Provide one spot f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Bodoni SvtyTwo ITC TT-Book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Bodoni SvtyTwo ITC TT-Book"/>
              </a:rPr>
              <a:t>resources and lin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3" name="Picture 11" descr="Wiki.png"/>
          <p:cNvPicPr/>
          <p:nvPr/>
        </p:nvPicPr>
        <p:blipFill>
          <a:blip r:embed="rId1"/>
          <a:stretch/>
        </p:blipFill>
        <p:spPr>
          <a:xfrm>
            <a:off x="3959280" y="1050840"/>
            <a:ext cx="5013360" cy="2830680"/>
          </a:xfrm>
          <a:prstGeom prst="rect">
            <a:avLst/>
          </a:prstGeom>
          <a:ln w="0">
            <a:noFill/>
          </a:ln>
        </p:spPr>
      </p:pic>
      <p:sp>
        <p:nvSpPr>
          <p:cNvPr id="554" name="TextBox 12"/>
          <p:cNvSpPr/>
          <p:nvPr/>
        </p:nvSpPr>
        <p:spPr>
          <a:xfrm>
            <a:off x="217800" y="5648400"/>
            <a:ext cx="482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ea typeface="Bodoni SvtyTwo ITC TT-Book"/>
                <a:hlinkClick r:id="rId2"/>
              </a:rPr>
              <a:t> http://esu3vocab.wikispaces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c09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"/>
          <p:cNvSpPr txBox="1"/>
          <p:nvPr/>
        </p:nvSpPr>
        <p:spPr>
          <a:xfrm>
            <a:off x="457200" y="1809720"/>
            <a:ext cx="8229600" cy="6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research questio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680" indent="-46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ject Evaluation: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Data Collection and Review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Content Placeholder 3"/>
          <p:cNvSpPr/>
          <p:nvPr/>
        </p:nvSpPr>
        <p:spPr>
          <a:xfrm>
            <a:off x="458640" y="2370240"/>
            <a:ext cx="8229600" cy="19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680" indent="-4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id the professional learning model change teaching practice in the area of vocabulary? If so, did the change in teacher practice increase student achievement in the area of vocabular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680" indent="-4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680" indent="-4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c09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"/>
          <p:cNvSpPr txBox="1"/>
          <p:nvPr/>
        </p:nvSpPr>
        <p:spPr>
          <a:xfrm>
            <a:off x="457200" y="1809720"/>
            <a:ext cx="8229600" cy="43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ata from multiple sour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udent assessment data (State and Loca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strict participant online survey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it interviews (students, teachers, administratio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SU participant online exit surve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ject Evaluation: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Data Collection and Review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c09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Rectangle 4"/>
          <p:cNvSpPr/>
          <p:nvPr/>
        </p:nvSpPr>
        <p:spPr>
          <a:xfrm>
            <a:off x="380880" y="1828800"/>
            <a:ext cx="87631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content of the November 12 district-wide professional learning session, Tiered Vocabulary Words and 21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entury Skills (i.e. collaboration, creativity, problem solving), was organized to provide opportunities to learn new teaching strategies for vocabulary and incorporating 21st century skil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Text Box 1036"/>
          <p:cNvSpPr/>
          <p:nvPr/>
        </p:nvSpPr>
        <p:spPr>
          <a:xfrm>
            <a:off x="0" y="614880"/>
            <a:ext cx="9144000" cy="6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napshot of the d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Box 11"/>
          <p:cNvSpPr/>
          <p:nvPr/>
        </p:nvSpPr>
        <p:spPr>
          <a:xfrm>
            <a:off x="533520" y="3657600"/>
            <a:ext cx="84088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632523"/>
                </a:solidFill>
                <a:latin typeface="Arial"/>
              </a:rPr>
              <a:t>Number</a:t>
            </a:r>
            <a:r>
              <a:rPr b="1" lang="en-US" sz="2000" spc="-1" strike="noStrike">
                <a:solidFill>
                  <a:srgbClr val="632523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632523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632523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632523"/>
                </a:solidFill>
                <a:latin typeface="Arial"/>
              </a:rPr>
              <a:t>Percent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632523"/>
                </a:solidFill>
                <a:latin typeface="Arial"/>
              </a:rPr>
              <a:t>Strongly  Disagree</a:t>
            </a:r>
            <a:r>
              <a:rPr b="1" lang="en-US" sz="2000" spc="-1" strike="noStrike">
                <a:solidFill>
                  <a:srgbClr val="632523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632523"/>
                </a:solidFill>
                <a:latin typeface="Arial"/>
              </a:rPr>
              <a:t>Disagre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632523"/>
                </a:solidFill>
                <a:latin typeface="Arial"/>
              </a:rPr>
              <a:t>Neutral</a:t>
            </a:r>
            <a:r>
              <a:rPr b="1" lang="en-US" sz="2000" spc="-1" strike="noStrike">
                <a:solidFill>
                  <a:srgbClr val="632523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9%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632523"/>
                </a:solidFill>
                <a:latin typeface="Arial"/>
              </a:rPr>
              <a:t>Agree</a:t>
            </a:r>
            <a:r>
              <a:rPr b="1" lang="en-US" sz="2000" spc="-1" strike="noStrike">
                <a:solidFill>
                  <a:srgbClr val="93cddd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59%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632523"/>
                </a:solidFill>
                <a:latin typeface="Arial"/>
              </a:rPr>
              <a:t>Strongly Agree</a:t>
            </a:r>
            <a:r>
              <a:rPr b="1" lang="en-US" sz="2000" spc="-1" strike="noStrike">
                <a:solidFill>
                  <a:srgbClr val="93cddd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31%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c09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TextBox 4"/>
          <p:cNvSpPr/>
          <p:nvPr/>
        </p:nvSpPr>
        <p:spPr>
          <a:xfrm>
            <a:off x="939960" y="239760"/>
            <a:ext cx="725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Bodoni SvtyTwo ITC TT-Book"/>
              </a:rPr>
              <a:t>Fort Calhoun Administration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4" name="Picture 2" descr="wideDisplayLightOrange.png"/>
          <p:cNvPicPr/>
          <p:nvPr/>
        </p:nvPicPr>
        <p:blipFill>
          <a:blip r:embed="rId1"/>
          <a:stretch/>
        </p:blipFill>
        <p:spPr>
          <a:xfrm>
            <a:off x="641520" y="1168560"/>
            <a:ext cx="7860960" cy="5410080"/>
          </a:xfrm>
          <a:prstGeom prst="rect">
            <a:avLst/>
          </a:prstGeom>
          <a:ln w="0">
            <a:noFill/>
          </a:ln>
        </p:spPr>
      </p:pic>
      <p:pic>
        <p:nvPicPr>
          <p:cNvPr id="565" name="Macintosh HD:Users:billmenousek:Desktop:Fort Calhoun Presentation:Fort Calhoun PowerPoint Video.m4v" descr=""/>
          <p:cNvPicPr/>
          <p:nvPr/>
        </p:nvPicPr>
        <p:blipFill>
          <a:blip r:embed="rId2"/>
          <a:stretch/>
        </p:blipFill>
        <p:spPr>
          <a:xfrm>
            <a:off x="2041560" y="1620720"/>
            <a:ext cx="5043600" cy="378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restart="whenNotActive" nodeType="interactiveSeq" fill="hold">
                <p:stCondLst>
                  <p:cond evt="onClick">
                    <p:tgtEl>
                      <p:spTgt spid="565"/>
                    </p:tgtEl>
                  </p:cond>
                </p:stCondLst>
                <p:childTnLst>
                  <p:par>
                    <p:cTn id="111" fill="hold">
                      <p:stCondLst>
                        <p:cond evt="onClick">
                          <p:tgtEl>
                            <p:spTgt spid="565"/>
                          </p:tgtEl>
                        </p:cond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4" dur="1" fill="hold"/>
                                        <p:tgtEl>
                                          <p:spTgt spid="5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c09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TextBox 3"/>
          <p:cNvSpPr/>
          <p:nvPr/>
        </p:nvSpPr>
        <p:spPr>
          <a:xfrm>
            <a:off x="577800" y="179280"/>
            <a:ext cx="8215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order to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change teaching practice, and 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e student achievement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essional development must be ongoing, job-embedded, relevant to the teacher’s instructional needs, and collaborative in natu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ellen Kill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Box 5"/>
          <p:cNvSpPr/>
          <p:nvPr/>
        </p:nvSpPr>
        <p:spPr>
          <a:xfrm>
            <a:off x="291960" y="3978360"/>
            <a:ext cx="8361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Bodoni SvtyTwo ITC TT-Book"/>
              </a:rPr>
              <a:t>#1 - To</a:t>
            </a:r>
            <a:r>
              <a:rPr b="0" lang="en-US" sz="2800" spc="-1" strike="noStrike">
                <a:solidFill>
                  <a:srgbClr val="000000"/>
                </a:solidFill>
                <a:latin typeface="Bodoni SvtyTwo ITC TT-Book"/>
                <a:ea typeface="Bodoni SvtyTwo ITC TT-Book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Bodoni SvtyTwo ITC TT-Book"/>
              </a:rPr>
              <a:t>develop and implement a professional learning program tha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Bodoni SvtyTwo ITC TT-Book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Bodoni SvtyTwo ITC TT-Book"/>
              </a:rPr>
              <a:t>isn’t a one day ev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Box 3"/>
          <p:cNvSpPr/>
          <p:nvPr/>
        </p:nvSpPr>
        <p:spPr>
          <a:xfrm>
            <a:off x="291960" y="3456000"/>
            <a:ext cx="515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ESU #3 Action Research Go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Box 4"/>
          <p:cNvSpPr/>
          <p:nvPr/>
        </p:nvSpPr>
        <p:spPr>
          <a:xfrm>
            <a:off x="2413080" y="179280"/>
            <a:ext cx="4892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lect the current research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indefinite"/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7" dur="indefinite"/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" dur="indefinite"/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c09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TextBox 3"/>
          <p:cNvSpPr/>
          <p:nvPr/>
        </p:nvSpPr>
        <p:spPr>
          <a:xfrm>
            <a:off x="577800" y="179280"/>
            <a:ext cx="8215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order to reflect the current research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change teaching practice, and 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e student achievement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essional development must b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ngo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job-embedded, relevant to the teacher’s instructional needs, and collaborative in natu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ellen Kill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Box 4"/>
          <p:cNvSpPr/>
          <p:nvPr/>
        </p:nvSpPr>
        <p:spPr>
          <a:xfrm>
            <a:off x="291960" y="5362560"/>
            <a:ext cx="10923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Bodoni SvtyTwo ITC TT-Book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Bodoni SvtyTwo ITC TT-Book"/>
              </a:rPr>
              <a:t>is focused and continuous throughout th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Bodoni SvtyTwo ITC TT-Book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Bodoni SvtyTwo ITC TT-Book"/>
              </a:rPr>
              <a:t>school y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Box 3"/>
          <p:cNvSpPr/>
          <p:nvPr/>
        </p:nvSpPr>
        <p:spPr>
          <a:xfrm>
            <a:off x="291960" y="3456000"/>
            <a:ext cx="515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ESU #3 Action Research Go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Box 5"/>
          <p:cNvSpPr/>
          <p:nvPr/>
        </p:nvSpPr>
        <p:spPr>
          <a:xfrm>
            <a:off x="291960" y="3978360"/>
            <a:ext cx="8361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Bodoni SvtyTwo ITC TT-Book"/>
              </a:rPr>
              <a:t>#1 - To</a:t>
            </a:r>
            <a:r>
              <a:rPr b="0" lang="en-US" sz="2800" spc="-1" strike="noStrike">
                <a:solidFill>
                  <a:srgbClr val="000000"/>
                </a:solidFill>
                <a:latin typeface="Bodoni SvtyTwo ITC TT-Book"/>
                <a:ea typeface="Bodoni SvtyTwo ITC TT-Book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Bodoni SvtyTwo ITC TT-Book"/>
              </a:rPr>
              <a:t>develop and implement a professional learning program tha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Bodoni SvtyTwo ITC TT-Book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Bodoni SvtyTwo ITC TT-Book"/>
              </a:rPr>
              <a:t>isn’t a one day ev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c09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TextBox 3"/>
          <p:cNvSpPr/>
          <p:nvPr/>
        </p:nvSpPr>
        <p:spPr>
          <a:xfrm>
            <a:off x="577800" y="182520"/>
            <a:ext cx="8215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order to reflect the current research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change teaching practice, and 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e student achievement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essional development must be ongoing, job-embedded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leva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the teacher’s instructional needs, and collaborative in nature.”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ellen Kill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Box 6"/>
          <p:cNvSpPr/>
          <p:nvPr/>
        </p:nvSpPr>
        <p:spPr>
          <a:xfrm>
            <a:off x="291960" y="3979800"/>
            <a:ext cx="8461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Bodoni SvtyTwo ITC TT-Book"/>
              </a:rPr>
              <a:t>#2 - The program shoul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Bodoni SvtyTwo ITC TT-Book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Bodoni SvtyTwo ITC TT-Book"/>
              </a:rPr>
              <a:t>Focus on a curriculum driven by a need expres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Bodoni SvtyTwo ITC TT-Book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Bodoni SvtyTwo ITC TT-Book"/>
              </a:rPr>
              <a:t>in the district’s school improvement pl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Box 3"/>
          <p:cNvSpPr/>
          <p:nvPr/>
        </p:nvSpPr>
        <p:spPr>
          <a:xfrm>
            <a:off x="291960" y="3456000"/>
            <a:ext cx="515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ESU #3 Action Research Go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Box 5"/>
          <p:cNvSpPr/>
          <p:nvPr/>
        </p:nvSpPr>
        <p:spPr>
          <a:xfrm>
            <a:off x="326880" y="6246720"/>
            <a:ext cx="710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Bodoni SvtyTwo ITC TT-Book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Bodoni SvtyTwo ITC TT-Book"/>
              </a:rPr>
              <a:t>Include the integration of 2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Bodoni SvtyTwo ITC TT-Book"/>
              </a:rPr>
              <a:t>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Bodoni SvtyTwo ITC TT-Book"/>
              </a:rPr>
              <a:t> century ski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Box 6"/>
          <p:cNvSpPr/>
          <p:nvPr/>
        </p:nvSpPr>
        <p:spPr>
          <a:xfrm>
            <a:off x="262800" y="5329080"/>
            <a:ext cx="8206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Bodoni SvtyTwo ITC TT-Book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Bodoni SvtyTwo ITC TT-Book"/>
              </a:rPr>
              <a:t>Focus 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ities to process content that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ategies for the classro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c09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TextBox 3"/>
          <p:cNvSpPr/>
          <p:nvPr/>
        </p:nvSpPr>
        <p:spPr>
          <a:xfrm>
            <a:off x="577800" y="182520"/>
            <a:ext cx="8215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order to reflect the current research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change teaching practice, and 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e student achievement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essional development must be ongoing, job-embedded, relevant to the teacher’s instructional needs, and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llaborativ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 natu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ellen Kill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Box 8"/>
          <p:cNvSpPr/>
          <p:nvPr/>
        </p:nvSpPr>
        <p:spPr>
          <a:xfrm>
            <a:off x="291960" y="3978360"/>
            <a:ext cx="8361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Bodoni SvtyTwo ITC TT-Book"/>
              </a:rPr>
              <a:t>#3 - The program includes the use of videoconferencing and PLGs for follow-up collabo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Box 3"/>
          <p:cNvSpPr/>
          <p:nvPr/>
        </p:nvSpPr>
        <p:spPr>
          <a:xfrm>
            <a:off x="291960" y="3456000"/>
            <a:ext cx="515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ESU #3 Action Research Go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c09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TextBox 3"/>
          <p:cNvSpPr/>
          <p:nvPr/>
        </p:nvSpPr>
        <p:spPr>
          <a:xfrm>
            <a:off x="577800" y="182520"/>
            <a:ext cx="8215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order to reflect the current research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change teaching practice, and 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crease student achievem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essional development must be ongoing, job-embedded, relevant to the teacher’s instructional needs, and collaborative in natu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ellen Kill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Box 7"/>
          <p:cNvSpPr/>
          <p:nvPr/>
        </p:nvSpPr>
        <p:spPr>
          <a:xfrm>
            <a:off x="291960" y="3978360"/>
            <a:ext cx="836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Bodoni SvtyTwo ITC TT-Book"/>
              </a:rPr>
              <a:t>#4 - The professional learning program impacts the improvement of student achieve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Box 3"/>
          <p:cNvSpPr/>
          <p:nvPr/>
        </p:nvSpPr>
        <p:spPr>
          <a:xfrm>
            <a:off x="291960" y="3456000"/>
            <a:ext cx="515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ESU #3 Action Research Go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ac09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6" name="Picture 4" descr="goals2.jpg"/>
          <p:cNvPicPr/>
          <p:nvPr/>
        </p:nvPicPr>
        <p:blipFill>
          <a:blip r:embed="rId1"/>
          <a:stretch/>
        </p:blipFill>
        <p:spPr>
          <a:xfrm>
            <a:off x="5991120" y="4508640"/>
            <a:ext cx="2973600" cy="2228760"/>
          </a:xfrm>
          <a:prstGeom prst="rect">
            <a:avLst/>
          </a:prstGeom>
          <a:ln w="0">
            <a:noFill/>
          </a:ln>
        </p:spPr>
      </p:pic>
      <p:pic>
        <p:nvPicPr>
          <p:cNvPr id="497" name="Picture 7" descr="GOALSlightorange.png"/>
          <p:cNvPicPr/>
          <p:nvPr/>
        </p:nvPicPr>
        <p:blipFill>
          <a:blip r:embed="rId2"/>
          <a:stretch/>
        </p:blipFill>
        <p:spPr>
          <a:xfrm>
            <a:off x="0" y="9360"/>
            <a:ext cx="9144000" cy="1390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ac09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8" name="Picture 4" descr="goals2.jpg"/>
          <p:cNvPicPr/>
          <p:nvPr/>
        </p:nvPicPr>
        <p:blipFill>
          <a:blip r:embed="rId1"/>
          <a:stretch/>
        </p:blipFill>
        <p:spPr>
          <a:xfrm>
            <a:off x="5991120" y="4508640"/>
            <a:ext cx="2973600" cy="2228760"/>
          </a:xfrm>
          <a:prstGeom prst="rect">
            <a:avLst/>
          </a:prstGeom>
          <a:ln w="0">
            <a:noFill/>
          </a:ln>
        </p:spPr>
      </p:pic>
      <p:pic>
        <p:nvPicPr>
          <p:cNvPr id="499" name="Picture 7" descr="GOALSlightorange.png"/>
          <p:cNvPicPr/>
          <p:nvPr/>
        </p:nvPicPr>
        <p:blipFill>
          <a:blip r:embed="rId2"/>
          <a:stretch/>
        </p:blipFill>
        <p:spPr>
          <a:xfrm>
            <a:off x="0" y="9360"/>
            <a:ext cx="9144000" cy="13906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8T14:45:39Z</dcterms:created>
  <dc:creator>Media 2</dc:creator>
  <dc:description/>
  <dc:language>en-US</dc:language>
  <cp:lastModifiedBy>Bill Menousek</cp:lastModifiedBy>
  <dcterms:modified xsi:type="dcterms:W3CDTF">2011-01-28T16:16:51Z</dcterms:modified>
  <cp:revision>53</cp:revision>
  <dc:subject/>
  <dc:title>Slide 1</dc:title>
</cp:coreProperties>
</file>